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7A9-D075-470F-8667-AEB5CE20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789-F152-45C1-ACBC-2D62A71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A0B-8F74-422D-8A24-FE6E993E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AD9-31E7-41D2-AF00-067D6B3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292B-980D-4537-8428-35D72350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50F-1DB3-4A85-836E-9F13F8D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432-1412-4443-95FB-F093A66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7528-5947-4508-A343-0A01D80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BBD-BB67-468C-997F-8E42D42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E538-9536-4859-BFA6-1F70910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8383-6153-4F21-8497-FEB8552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C57-DB6D-4F15-B8A4-6D3E062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96A-EE6E-4663-8038-685D987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68A-EFC4-4FCF-812B-1B768DA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A41-B44C-4415-B710-B72EBA0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098-F2AF-4C8D-A7A1-F1FA0B25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05D-FF2A-44FF-B91F-3CF97AD4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4A3B-E485-4881-89A1-8707728B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9CAE-BD0A-4DE6-994A-A49C0C6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6E16-1FFC-4696-A6F9-5F11AB73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A8FE-B77F-4C11-A0B3-FE03029A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3B8C-3AE3-4B8F-AD52-A830E00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69E-2BD4-49EE-9DD7-CA96719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B2D2-A314-4106-8E65-2FF4589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7084-32A4-4945-A42B-6FD0CF6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6CA6-924A-4CB3-94D7-FC10AC4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9FB9-F6D1-4445-B359-F9EDC85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0199-754E-4D41-ACA9-B5565B4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7835-C0B7-4BF5-A044-61B8A677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E1B2-E8DD-4C0C-BF19-0BC3B0F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306F-5B43-4FD9-B2C7-1734CC6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47AC-BF7D-44B4-85ED-DDD7368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BCEB-E4BA-479F-A7D1-A8EE309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B4F-7DDD-4DBE-A30B-C914EA5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FFE6-CD5B-419A-8585-18678E0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F309-B87F-4B86-A8A6-182FE532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52B6-AFD1-4612-909D-7D4E27DC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EE2B-304E-42FD-A982-4D3326F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300F-7912-4175-8A33-80254FF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9E06-8A86-49BC-AF35-3902948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EFFB-0628-4E2E-A614-A8AB234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1C86-78EB-42A5-82A8-0F6DF700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E2CE-7D1B-464C-A0A0-C94E5988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8EC5-EBEC-468D-9F9B-06CE59E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C43-D2E7-4E7C-85C5-D5056D8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B3B0-9C95-49DA-8A49-80D14CE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42B5-3890-4415-9782-2B4D8BB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81BD-F710-4BDA-8D2F-2F8A072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23E5-D45E-4725-9C3C-2D6C592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3FF9-CB4D-45E2-B16F-60602DA8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25D7-EC1B-46C1-AFEA-D5A2827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82600-6766-4F9F-B52E-A349038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0FC1-C3B5-4FC9-A6DA-9E6317C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C48A-58DF-4C5D-99BC-4F56ABE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5ED7-3CDF-4754-A787-B57AA6D6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E8F-B4F8-4107-A342-4680A7F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2AC3-9519-4F6A-88FA-53D57B88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269-3EB7-4A65-9823-01D860C9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A09-CAD5-4D1F-BC0C-047B2F3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86B-0043-472D-946E-48D235C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EF7D-739C-4EFB-AB65-3844A21F48F4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47E-46EE-465A-B224-D210A74C80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CB35-5F3F-455B-9004-A20DD8DEF31A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8DA4-C3C5-428E-A73A-3C0F541ABC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9AF6-68FD-460B-A859-970E63FBB030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3DED-29A4-4695-970F-6DD6E6FAF9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D8F-9BE3-4637-A148-FA84C3C9A1F9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A0EC-53E0-49AF-9CBA-0BAF77B767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AA59-FACD-410B-B89D-16FD76FBE8C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F49-265D-490B-895F-3140B6C027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t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8: Empire of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amura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se influence of Confucianism and Buddhism to lead disciplined liv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Bushido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= code of conduct/rules for Samurai – required samurai to be brave and honorab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Losing a battle, disobeying an order, etc. = ways a samurai could lose honor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Use ideas of Confucianism (duty to Daimyo)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Use ideas of 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(self control and discipline) – many samurai meditate each day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amurai role in society is primarily to serve and protect their daimyo and his lan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Samurai also police society, fight in battl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shido, though designed for Samurai, portrays ideals and values of all Japanes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Mongols attempt to invade Japa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– Japanese nobles must set aside differences in order to ban together to fight off Mongo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are aided by bad weather that hinders the Mongol’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nobles become dissatisfied with the shogun’s role during these two wars – begin to turn against shogun’s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imyo landowners attempt to break free from shogun’s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By the 1400’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ogun loses pow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eror is still seen as a “figurehead” (no real powe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imyo’s control individual land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1500’s –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Oda Nobunag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comes first leader to reunify Jap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bunaga gives guns to his soldiers – makes them more effective in battle – allowed Oda Nobunaga to easily take contro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fter death of Oda Nobunaga,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okugawa Ieyasu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akes over control of much of Japan. (1600’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eror declares Tokugawa Ieyasu as “shogun” of Japan – begins Tokugawa shogun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Isol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Japa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’s shoguns became concerned that influence of outsiders would threaten their control over Japan – begin to isolate Japan from the wes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 of the world makes progress while Japan stays the same – Japan falls behi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amurai period lasts until 1800’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was isolated from other cultures (did not make progres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limited technolog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banned the use of gu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and Early Japa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Geograph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is an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archipelago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cluster of island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jority of Japan is steep mountain slopes – 1/5 of land is flat enough for living and farm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Japanes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live near coas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– rely upon ocean for food (seafood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apan’s geography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isolat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Japan from other cultures early in it’s history (due to the fact that it is an islan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of Early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Japane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nu people (north Japa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(south Japan) live in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la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or extended family uni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ans view themselves as rivals with one anothe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Japanese follow belief of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hinto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into = everything in nature has a spirit (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kam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.  Goal of people is to be in harmony with the spirit of natu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iefs of each Japanese clan is said to be a direct descendant of kami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 powerful clan was the Yamato clan – began taking control of much of Japan and began calling themselves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Emperors of Japa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and Early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500’s Japan begins to desire progress and sends representatives to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Chin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Kore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bring back new ide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brings over written language of Chin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brings over ideas of  Confucianism and Buddhism – later develop unique forms of Buddhism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Pure Land Buddhis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Prince Shotoku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influential figure (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regen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that brought many cultural items from China – especially a desire to spread Buddhism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41840" indent="-21708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Regent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someone who rules a country for someone who is unable to (Prince Shotoku ruled Japan for his aunt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mperor moves capital of Japan to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Hei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many nobles follow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bles create an imperial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our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- nobles live near/serve as advisors to the Emper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fe in imperial court = nobles are disinterested with life outside of the pala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bles known as “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dwellers among the cloud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” because they were not concerned with life throughout Japan or the poverty of the commoners – life was easy and removed from the rest of Jap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bles invest time and energy into creating a life of luxury, filled with the arts (fashion, literature, theatr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Litera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sible because of the Chinese system of writing brought to Japa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ing was particularly popular with women in the Heian court – noble women develop early literature of Jap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men write in Chinese – Women use the newly developed Japanese writing system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Lady Murasaki Shikibu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greatest writer in early Japanese history.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63800" indent="-2214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rote the first novel “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The Tale of Genj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” – which described the noble lifestyle as it follows the life of a pri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Buddhism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Japa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ddhism is brought from China (Prince Shotoku) and then adapted in Japa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oners =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Pure Land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comes popular because it doesn’t require elaborate ritual – chant Buddha’s name over and over to reach enlightened st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= popular with many Japanese, especially warrio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ek wisdom and practice self discipline through meditation (often around dry landscape garden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murai practice Zen Buddhism to help practice the discipline required in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Bushid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landowners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Daimyo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take over control of lands in Japan – because Emperor was distracted by court lif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aimyo need to protect their own lands so they hire </a:t>
            </a:r>
            <a:r>
              <a:rPr b="0" lang="en-US" sz="2200" spc="-1" strike="noStrike">
                <a:solidFill>
                  <a:srgbClr val="ff0000"/>
                </a:solidFill>
                <a:latin typeface="Perpetua"/>
              </a:rPr>
              <a:t>Samurai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(trained warriors) – protecting Daimyo’s land is a Samurai’s main responsibilit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werful nobles were dissatisfied with how the country was being run – decide to try to take control of the count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inamoto clan eventually takes contro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Head of Minamoto clan becomes first 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Shogun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 (military leader who rules in the emperor’s name)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Emperor becomes a “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figurehead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” while the Shogun has real power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Minamoto Shogun rules Japan for almost 700 years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Order of importance in Feudal Jap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) Emper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) Shogun – though he often had more power than emper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) Daimy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4) Samur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5) Peasa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48:04Z</dcterms:created>
  <dc:creator>sduhsd</dc:creator>
  <dc:description/>
  <dc:language>en-US</dc:language>
  <cp:lastModifiedBy>City School</cp:lastModifiedBy>
  <dcterms:modified xsi:type="dcterms:W3CDTF">2011-12-01T01:40:47Z</dcterms:modified>
  <cp:revision>22</cp:revision>
  <dc:subject/>
  <dc:title>Chapter 8: Empire of Japan</dc:title>
</cp:coreProperties>
</file>